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move the slide</a:t>
            </a:r>
            <a:endParaRPr b="0" lang="en-US" sz="3600" spc="-1" strike="noStrike">
              <a:solidFill>
                <a:srgbClr val="ffff00"/>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2C29-D4F8-41B4-80B5-CA73D22D1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7DE3B-0078-4545-B010-A73E2F63CA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CEBB-DA34-401C-9130-450CCF35C6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between chronic and acute illness:</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ute illnesses:</a:t>
            </a:r>
            <a:r>
              <a:rPr b="0" lang="en-US" sz="1200" spc="-1" strike="noStrike">
                <a:solidFill>
                  <a:srgbClr val="000000"/>
                </a:solidFill>
                <a:latin typeface="Times New Roman"/>
              </a:rPr>
              <a:t> can be quite time-limited, like a common cold or a bout of influenza, and more severe, like a heart attack or appendicitis. Illnesses such as hernias may present more slowly over a period of days or months. </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ronic illness:</a:t>
            </a:r>
            <a:r>
              <a:rPr b="0" lang="en-US" sz="1200" spc="-1" strike="noStrike">
                <a:solidFill>
                  <a:srgbClr val="000000"/>
                </a:solidFill>
                <a:latin typeface="Times New Roman"/>
              </a:rPr>
              <a:t> can start out as an acute illness that does not resolve, such as sinusitus. </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llness can be chronic conditions with recurrent, acute exacerbations, such as asthma or sickle cell anemi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8F45-AD16-4017-A633-0EF7893A40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mutagens? (Agents that can damage DNA, including certain chemicals, radiation, and viruses.)</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genetic disease occurs spontaneously, there is no family history of the disease that can be trace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4EEA-3905-425D-B6BA-0A60668297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examples of genetic diseases?</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osomal dominant</a:t>
            </a:r>
            <a:r>
              <a:rPr b="0" lang="en-US" sz="1200" spc="-1" strike="noStrike">
                <a:solidFill>
                  <a:srgbClr val="000000"/>
                </a:solidFill>
                <a:latin typeface="Times New Roman"/>
              </a:rPr>
              <a:t> </a:t>
            </a:r>
            <a:r>
              <a:rPr b="1" lang="en-US" sz="1200" spc="-1" strike="noStrike">
                <a:solidFill>
                  <a:srgbClr val="000000"/>
                </a:solidFill>
                <a:latin typeface="Times New Roman"/>
              </a:rPr>
              <a:t>diseases:</a:t>
            </a:r>
            <a:r>
              <a:rPr b="0" lang="en-US" sz="1200" spc="-1" strike="noStrike">
                <a:solidFill>
                  <a:srgbClr val="000000"/>
                </a:solidFill>
                <a:latin typeface="Times New Roman"/>
              </a:rPr>
              <a:t> Huntington</a:t>
            </a:r>
            <a:r>
              <a:rPr b="0" lang="ja-JP" sz="1200" spc="-1" strike="noStrike">
                <a:solidFill>
                  <a:srgbClr val="000000"/>
                </a:solidFill>
                <a:latin typeface="Times New Roman"/>
              </a:rPr>
              <a:t>’</a:t>
            </a:r>
            <a:r>
              <a:rPr b="0" lang="en-US" sz="1200" spc="-1" strike="noStrike">
                <a:solidFill>
                  <a:srgbClr val="000000"/>
                </a:solidFill>
                <a:latin typeface="Times New Roman"/>
              </a:rPr>
              <a:t>s disease, Marfan</a:t>
            </a:r>
            <a:r>
              <a:rPr b="0" lang="ja-JP" sz="1200" spc="-1" strike="noStrike">
                <a:solidFill>
                  <a:srgbClr val="000000"/>
                </a:solidFill>
                <a:latin typeface="Times New Roman"/>
              </a:rPr>
              <a:t>’</a:t>
            </a:r>
            <a:r>
              <a:rPr b="0" lang="en-US" sz="1200" spc="-1" strike="noStrike">
                <a:solidFill>
                  <a:srgbClr val="000000"/>
                </a:solidFill>
                <a:latin typeface="Times New Roman"/>
              </a:rPr>
              <a:t>s syndrome.</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osomal recessive</a:t>
            </a:r>
            <a:r>
              <a:rPr b="0" lang="en-US" sz="1200" spc="-1" strike="noStrike">
                <a:solidFill>
                  <a:srgbClr val="000000"/>
                </a:solidFill>
                <a:latin typeface="Times New Roman"/>
              </a:rPr>
              <a:t> </a:t>
            </a:r>
            <a:r>
              <a:rPr b="1" lang="en-US" sz="1200" spc="-1" strike="noStrike">
                <a:solidFill>
                  <a:srgbClr val="000000"/>
                </a:solidFill>
                <a:latin typeface="Times New Roman"/>
              </a:rPr>
              <a:t>diseases:</a:t>
            </a:r>
            <a:r>
              <a:rPr b="0" lang="en-US" sz="1200" spc="-1" strike="noStrike">
                <a:solidFill>
                  <a:srgbClr val="000000"/>
                </a:solidFill>
                <a:latin typeface="Times New Roman"/>
              </a:rPr>
              <a:t> cystic fibrosis, sickle cell anemia.</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linked recessive</a:t>
            </a:r>
            <a:r>
              <a:rPr b="0" lang="en-US" sz="1200" spc="-1" strike="noStrike">
                <a:solidFill>
                  <a:srgbClr val="000000"/>
                </a:solidFill>
                <a:latin typeface="Times New Roman"/>
              </a:rPr>
              <a:t> </a:t>
            </a:r>
            <a:r>
              <a:rPr b="1" lang="en-US" sz="1200" spc="-1" strike="noStrike">
                <a:solidFill>
                  <a:srgbClr val="000000"/>
                </a:solidFill>
                <a:latin typeface="Times New Roman"/>
              </a:rPr>
              <a:t>diseases:</a:t>
            </a:r>
            <a:r>
              <a:rPr b="0" lang="en-US" sz="1200" spc="-1" strike="noStrike">
                <a:solidFill>
                  <a:srgbClr val="000000"/>
                </a:solidFill>
                <a:latin typeface="Times New Roman"/>
              </a:rPr>
              <a:t> hemophilia, some forms of muscular dystrophy.</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orders such as Down syndrome, Klinefelter</a:t>
            </a:r>
            <a:r>
              <a:rPr b="0" lang="ja-JP" sz="1200" spc="-1" strike="noStrike">
                <a:solidFill>
                  <a:srgbClr val="000000"/>
                </a:solidFill>
                <a:latin typeface="Times New Roman"/>
              </a:rPr>
              <a:t>’</a:t>
            </a:r>
            <a:r>
              <a:rPr b="0" lang="en-US" sz="1200" spc="-1" strike="noStrike">
                <a:solidFill>
                  <a:srgbClr val="000000"/>
                </a:solidFill>
                <a:latin typeface="Times New Roman"/>
              </a:rPr>
              <a:t>s syndrome, or Turner</a:t>
            </a:r>
            <a:r>
              <a:rPr b="0" lang="ja-JP" sz="1200" spc="-1" strike="noStrike">
                <a:solidFill>
                  <a:srgbClr val="000000"/>
                </a:solidFill>
                <a:latin typeface="Times New Roman"/>
              </a:rPr>
              <a:t>’</a:t>
            </a:r>
            <a:r>
              <a:rPr b="0" lang="en-US" sz="1200" spc="-1" strike="noStrike">
                <a:solidFill>
                  <a:srgbClr val="000000"/>
                </a:solidFill>
                <a:latin typeface="Times New Roman"/>
              </a:rPr>
              <a:t>s syndrome are the result of a chromosomal abnormality. The abnormality can be an entire extra chromosome or the absence of an entire chromosom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06C4-1B30-4E5B-8E72-1244AD6B33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one of the most effective ways to prevent transmission of common pathogens, especially bacterial pathogens? (Proper hand-washing technique.)</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teps can be taken to minimize the possibility of infection? (Wear gloves if contact with body fluids or blood is likely. Wear protective eye goggles if splashing is likely. Wash fruits and vegetables properly; cook meat and poultry thoroughly.)</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sources of pathogens?</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ects - examples include mosquitoes with West Nile virus or malaria, and ticks via deer with Lyme disease</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 - raccoons with rabi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4759-8A70-40A6-987D-F49750459A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treatments are used for infections caused by common pathogens?</a:t>
            </a:r>
            <a:endParaRPr b="0" lang="en-US" sz="1200" spc="-1" strike="noStrike">
              <a:solidFill>
                <a:srgbClr val="000000"/>
              </a:solidFill>
              <a:latin typeface="Times New Roman"/>
            </a:endParaRPr>
          </a:p>
          <a:p>
            <a:pPr lvl="1" marL="51264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infection must be specific to the type of pathogen identified or suspected. </a:t>
            </a:r>
            <a:endParaRPr b="0" lang="en-US" sz="1200" spc="-1" strike="noStrike">
              <a:solidFill>
                <a:srgbClr val="000000"/>
              </a:solidFill>
              <a:latin typeface="Times New Roman"/>
            </a:endParaRPr>
          </a:p>
          <a:p>
            <a:pPr lvl="2" marL="801720" indent="-174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biotics are used for bacterial infections and must be specific to the subtype of bacteria. </a:t>
            </a:r>
            <a:endParaRPr b="0" lang="en-US" sz="1200" spc="-1" strike="noStrike">
              <a:solidFill>
                <a:srgbClr val="000000"/>
              </a:solidFill>
              <a:latin typeface="Times New Roman"/>
            </a:endParaRPr>
          </a:p>
          <a:p>
            <a:pPr lvl="2" marL="801720" indent="-174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virals are used for viruses. </a:t>
            </a:r>
            <a:endParaRPr b="0" lang="en-US" sz="1200" spc="-1" strike="noStrike">
              <a:solidFill>
                <a:srgbClr val="000000"/>
              </a:solidFill>
              <a:latin typeface="Times New Roman"/>
            </a:endParaRPr>
          </a:p>
          <a:p>
            <a:pPr lvl="2" marL="801720" indent="-174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fungal agents are used for specific fungi. </a:t>
            </a:r>
            <a:endParaRPr b="0" lang="en-US" sz="1200" spc="-1" strike="noStrike">
              <a:solidFill>
                <a:srgbClr val="000000"/>
              </a:solidFill>
              <a:latin typeface="Times New Roman"/>
            </a:endParaRPr>
          </a:p>
          <a:p>
            <a:pPr lvl="2" marL="801720" indent="-174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zoa may require a more complicated combination of therapies.</a:t>
            </a:r>
            <a:endParaRPr b="0" lang="en-US" sz="1200" spc="-1" strike="noStrike">
              <a:solidFill>
                <a:srgbClr val="000000"/>
              </a:solidFill>
              <a:latin typeface="Times New Roman"/>
            </a:endParaRPr>
          </a:p>
          <a:p>
            <a:pPr lvl="2" marL="801720" indent="-174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A refers to </a:t>
            </a:r>
            <a:r>
              <a:rPr b="0" lang="en-US" sz="1200" spc="-1" strike="noStrike">
                <a:solidFill>
                  <a:srgbClr val="000000"/>
                </a:solidFill>
                <a:latin typeface="Times New Roman"/>
                <a:ea typeface="ＭＳ Ｐゴシック"/>
              </a:rPr>
              <a:t>methicillin-resistant strains of Staphylococcus aureus (MRSA) that are showing up in hospitals, jails, crowded living quarters and other community environment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8BC75-084F-4A2A-938C-DEC87FC484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xample of a mechanical barrier? (The skin is the ultimate mechanical barrier that keeps us safe from a multitude of pathogens.)</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xample of a chemical barrier? (Chemical barriers include such things as the body pH, which creates a hostile environment and prevents certain organisms from successfully taking ov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80E5-A7D4-4841-A03C-F2C8D03866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acute inflammation occur? (It is a normal protective physiologic response to tissue injury and disease.)</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inflammation, an exudative response, attempts to wall off, destroy, and digest bacteria and dead or foreign tissu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6185-6743-4355-B722-C96844BD96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ronic inflammatory response may damage the affected tissue and inhibit the healing process. Examples include rheumatoid arthritis and psoriasi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A8149-E5B1-4E2C-8EB3-49E4BDF351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2006 estimates, which three types of cancer were responsible for the largest number of deaths in each gender?</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males: lung &amp; bronchus (26%), breast (15%), colon &amp; rectum (10%)</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es: lung &amp; bronchus (31%), colon &amp; rectum (10%) prostate (9%)</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67B8-7D1B-4B69-A133-FF6601C859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umors can be benign by tissue type and characteristics, yet still be fatal to the patient because of location or proximity to vital structures.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brain tumors fall into this category - inaccessible to conventional surgery. However, advances in surgical technology and non-surgical eradicating procedures have now made these tumors easier to tre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C9C09-E6BE-4424-B064-3A37E54D24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49DC-B15A-41E3-AE2F-D3813A910F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ces in treatment of cancer have greatly improved total cure rates and remission rates of previously fatal cancers. Survival rates are usually given in terms of five years from diagnosis or initial treatment.</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eotactic radiosurgery is an alternative to conventional radiation therapy for cancer tumors. (See Enrichment)</a:t>
            </a:r>
            <a:endParaRPr b="0" lang="en-US" sz="1200" spc="-1" strike="noStrike">
              <a:solidFill>
                <a:srgbClr val="000000"/>
              </a:solidFill>
              <a:latin typeface="Times New Roman"/>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6944-FC55-42C4-AD3E-C808F70E8B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se factors are under our influence or control. However, information about these risk factors has not been definitive until the last 20-30 years. This impacts the actual control patients have on their risk factors, especially older adults who were exposed before the dangers were known.</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ased evidence confirms even passive exposure to tobacco smoke has consequences for children and adul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5AA6-8785-47FC-B5A4-C6BA8055B2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eening guidelines are specific to age-groups at highest risk.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with family history of specific cancers, such as breast cancer, may have different recommendations for screening.</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creenings that are not gender-based include tests such as colonoscopy, for those with a family history of colon cance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8753-FD4C-4883-844B-FC582E2D6D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cancer account for the top three new cancer cases for each gender?</a:t>
            </a:r>
            <a:endParaRPr b="0" lang="en-US" sz="1200" spc="-1" strike="noStrike">
              <a:solidFill>
                <a:srgbClr val="000000"/>
              </a:solidFill>
              <a:latin typeface="Times New Roman"/>
            </a:endParaRPr>
          </a:p>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83A07-DB6B-4738-8127-DFC55C1807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atments are specific to the tissue type and cancer staging. For example, breast cancer treatment may involve a combination of surgery, radiation, and chemotherapy, or just surgery and chemotherapy. Prostate cancer may be treated with hormone therapy or a combination of surgery and radiation.</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urpose of palliative surgery? (to reduce symptoms of the cancer, such as severe pain from nerve compression - it is not a treatment that will effect a cure, only relief.)</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28AA-3838-4B05-B7EF-04EB80D232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8B8B-92C8-4C0A-BDE4-790540F096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predisposing factors for disease, and what is the effect when some of the factors are combined? (Each of these factors alone creates unique risks for illness. In combination, risks become more than cumulative.The whole is greater than just the sum of the parts. For example, patients with a family history of diabetes are at greater risk for health issues if they also smoke, are obese, and have an inactive lifestyle.)</a:t>
            </a:r>
            <a:endParaRPr b="0" lang="en-US" sz="1200" spc="-1" strike="noStrike">
              <a:solidFill>
                <a:srgbClr val="000000"/>
              </a:solidFill>
              <a:latin typeface="Times New Roman"/>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0FA8B-28C5-4158-B3B4-D90DD4C0CB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risk factors for developing specific illnesses cannot be altered?</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diseases are more common in men, some in women.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diseases are more common in certain age groups, such as testicular cancer in men ages 18-35.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9A05-7F8C-4A06-AB05-DFC43F39E3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d where we live our lives greatly impacts our health.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disasters such as nuclear reactor accidents impact many people in a wide distribution. Asbestos exposure and lead poisoning are widespread risks that continue to have an impact on health years after first being identified as dangerous to health.</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nutrition is a global issue that affects millions. Unfortunately, most of the individuals affected have little or no control over this obvious health risk.</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E69C-63EB-487A-87DC-BD2F2D4621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services are considered to be prophylactic medical services? (annual physical exams and lab tests, immunizations, and pertinent screening tests following recommended guidelin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E818-A068-4B12-A0D0-75C6A0D037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C933-98CE-46A2-A8BC-F21F4B8CF9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08E5-BE0A-4F84-9C63-7589006F82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symptoms of a hypersensitivity reaction? (itching, burning, swelling, coughing, sneezing, nasal congestion, wheezing, and difficulty breathing)</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F561-A510-4F34-82E1-FAEBBEBAE9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A043-AC40-4503-8DF6-01D7ACC8BD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hysiological changes are characteristic of the aging proces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62AE-F18A-4CCC-8BB4-08E40F6B0D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EA18-54C7-45D5-958D-C15B6F78DE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ciceptors can be specific for temperature, chemical, or mechanical stimuli.</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red pain can result in a body area distant from the affected tissue or organ. For example, the pain of a heart attack may be felt in the jaw or in the left ar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02C71-4AEB-4BB9-93CC-A23F8E48FB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major classes of drugs used for pain relief, but there are other medications also used for a specific condition. For example, a local anesthetic such as lidocaine may be used to treat herpes zoster (shingles) pain.</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non-medication treatments may be used for pain either alone or with medication.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examples of non-medication treatments for pain? (relaxation strategies, physical therapy, TENS, and acupunctur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433E-2BE6-47AF-BD68-7F2786E9D8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symptoms of psychological pain?</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ymptoms must be present in order to determine the presence of psychological pain? (Patients may exhibit all of these signs and symptoms or none or them.)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may deny any issues even when confronted, or they may seek relief and help readily.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sts, chaplains, social workers, nurses, and psychiatrists are trained to assess and intervene with psychological pain. However, each discipline varies in approach and the interventions they may us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1F8A-8E54-4560-A6EC-168DA1073B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history includes past medical history, surgeries, current medications, allergies, habits such as smoking, drug use, etc., occupational history, and family histor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9492-B1B3-4188-BD7E-8457185C0C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istic care treats the body, the mind, and the spirit of the individual.</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examples of alternative medicine therapies? (osteopathy, chiropractic, massage, reflexology, aromatherapy, herbs, diet and nutrition, acupuncture, acupressure, shiatsu, magnetic therapy, hypnosis, relaxation, Reiki, energy movement, and music therap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A000D-3CBA-4345-9B81-768D1FFC9D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3CF5D-4352-4AEF-BCBB-C0EF091D69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the sum of all of these factors plus our unique personalities and intellects.</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ing each person as an individual is a challenge all health care personnel must fac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14085-1478-40EE-9D09-53C7AD2E42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19E8A-F5BF-45E0-92EC-8BBE9430AB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oman may want to know her risk for having an afflicted child if the husband</a:t>
            </a:r>
            <a:r>
              <a:rPr b="0" lang="ja-JP" sz="1200" spc="-1" strike="noStrike">
                <a:solidFill>
                  <a:srgbClr val="000000"/>
                </a:solidFill>
                <a:latin typeface="Times New Roman"/>
              </a:rPr>
              <a:t>’</a:t>
            </a:r>
            <a:r>
              <a:rPr b="0" lang="en-US" sz="1200" spc="-1" strike="noStrike">
                <a:solidFill>
                  <a:srgbClr val="000000"/>
                </a:solidFill>
                <a:latin typeface="Times New Roman"/>
              </a:rPr>
              <a:t>s family has a history of an illness such as sickle cell disease.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ple may both be counseled and tested. Based on the results, actual risk is determined and a course of action is recommended.</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66BD-11BA-43FF-9B52-78BBA79F59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ABB9-F76F-4ECD-A7B5-E6450D35AF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goals of patient teaching?</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reasons for patient teaching? (to ease anxiety, answer questions, instill confidence, reinforce physician</a:t>
            </a:r>
            <a:r>
              <a:rPr b="0" lang="ja-JP" sz="1200" spc="-1" strike="noStrike">
                <a:solidFill>
                  <a:srgbClr val="000000"/>
                </a:solidFill>
                <a:latin typeface="Times New Roman"/>
              </a:rPr>
              <a:t>’</a:t>
            </a:r>
            <a:r>
              <a:rPr b="0" lang="en-US" sz="1200" spc="-1" strike="noStrike">
                <a:solidFill>
                  <a:srgbClr val="000000"/>
                </a:solidFill>
                <a:latin typeface="Times New Roman"/>
              </a:rPr>
              <a:t>s instructions, highlight goals for recovery)</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2BB8-48B3-434B-8FC0-311119C994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often do not hear much of the information presented to them in the clinic or hospital setting.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s include high state of anxiety, not feeling optimal, the presence of pain, and environmental distractions such as noise.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is important to assess the patient</a:t>
            </a:r>
            <a:r>
              <a:rPr b="0" lang="ja-JP" sz="1200" spc="-1" strike="noStrike">
                <a:solidFill>
                  <a:srgbClr val="000000"/>
                </a:solidFill>
                <a:latin typeface="Times New Roman"/>
              </a:rPr>
              <a:t>’</a:t>
            </a:r>
            <a:r>
              <a:rPr b="0" lang="en-US" sz="1200" spc="-1" strike="noStrike">
                <a:solidFill>
                  <a:srgbClr val="000000"/>
                </a:solidFill>
                <a:latin typeface="Times New Roman"/>
              </a:rPr>
              <a:t>s learning and reinforce teaching frequently, if need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6065-769B-47EB-A515-5596326588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0B07D-10FE-45F5-B9DB-F9DC264FDB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DFCEE-5D66-481A-9146-00CE1FCA72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ll systems and organs function, then the body maintains an internal stability of homeostasis.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a pathologic state? (A pathologic state exists when body systems or organs can no longer maintain normal processes.)</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hanges are measurable and can be assessed using such procedures as lab tests, imaging techniques, biopsies, and endoscop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E0828-8117-47BF-9897-5FA371A062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internal equilibrium is disrupted and the body is no longer able to adapt to internal and external challenges, then a disease state develops.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long does it take for a disease state to develop? (It can be quite variable - from hours to days, weeks, or even month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51CC-8520-4CA3-9938-2C6515383D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ection of objective findings (signs) is compared with the subjective patient reports (symptoms) to give an overall clinical impression or presentation. </a:t>
            </a:r>
            <a:endParaRPr b="0" lang="en-US" sz="1200" spc="-1" strike="noStrike">
              <a:solidFill>
                <a:srgbClr val="000000"/>
              </a:solidFill>
              <a:latin typeface="Times New Roman"/>
            </a:endParaRPr>
          </a:p>
          <a:p>
            <a:pPr marL="2271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the signs and symptoms may lead the clinician to a differential diagnosis of bacterial infection of the tonsils and pharyn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8"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2"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6"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5"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1"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1" name="PlaceHolder 2"/>
          <p:cNvSpPr>
            <a:spLocks noGrp="1"/>
          </p:cNvSpPr>
          <p:nvPr>
            <p:ph type="body"/>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Text Box 4"/>
          <p:cNvSpPr/>
          <p:nvPr/>
        </p:nvSpPr>
        <p:spPr>
          <a:xfrm>
            <a:off x="152280" y="617220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sevier items and derived items © 2009 by Saunders, an imprint of Elsevier Inc.</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40" name="PlaceHolder 2"/>
          <p:cNvSpPr>
            <a:spLocks noGrp="1"/>
          </p:cNvSpPr>
          <p:nvPr>
            <p:ph type="body"/>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Essentials of Human Diseases and Conditions </a:t>
            </a:r>
            <a:br>
              <a:rPr sz="4000"/>
            </a:br>
            <a:r>
              <a:rPr b="0" i="1" lang="en-US" sz="2400" spc="-1" strike="noStrike">
                <a:solidFill>
                  <a:srgbClr val="ffff00"/>
                </a:solidFill>
                <a:latin typeface="Arial"/>
              </a:rPr>
              <a:t>4</a:t>
            </a:r>
            <a:r>
              <a:rPr b="0" i="1" lang="en-US" sz="2400" spc="-1" strike="noStrike" baseline="30000">
                <a:solidFill>
                  <a:srgbClr val="ffff00"/>
                </a:solidFill>
                <a:latin typeface="Arial"/>
              </a:rPr>
              <a:t>th</a:t>
            </a:r>
            <a:r>
              <a:rPr b="0" i="1" lang="en-US" sz="2400" spc="-1" strike="noStrike">
                <a:solidFill>
                  <a:srgbClr val="ffff00"/>
                </a:solidFill>
                <a:latin typeface="Arial"/>
              </a:rPr>
              <a:t> edition</a:t>
            </a:r>
            <a:endParaRPr b="0" lang="en-US" sz="2400" spc="-1" strike="noStrike">
              <a:solidFill>
                <a:srgbClr val="ffff00"/>
              </a:solidFill>
              <a:latin typeface="Arial"/>
            </a:endParaRPr>
          </a:p>
        </p:txBody>
      </p:sp>
      <p:sp>
        <p:nvSpPr>
          <p:cNvPr id="85" name="PlaceHolder 2"/>
          <p:cNvSpPr>
            <a:spLocks noGrp="1"/>
          </p:cNvSpPr>
          <p:nvPr>
            <p:ph type="subTitle"/>
          </p:nvPr>
        </p:nvSpPr>
        <p:spPr>
          <a:xfrm>
            <a:off x="1371600" y="3123720"/>
            <a:ext cx="6400800" cy="1752840"/>
          </a:xfrm>
          <a:prstGeom prst="rect">
            <a:avLst/>
          </a:prstGeom>
          <a:noFill/>
          <a:ln w="0">
            <a:noFill/>
          </a:ln>
        </p:spPr>
        <p:txBody>
          <a:bodyPr lIns="92160" rIns="92160" tIns="46080" bIns="4608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garet Schell Frazier</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nette Wist Drzymkowsk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logy at First Glanc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0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ute Illness</a:t>
            </a:r>
            <a:endParaRPr b="0" lang="en-US" sz="28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set is usually abrupt </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present themselves over hours to days</a:t>
            </a:r>
            <a:endParaRPr b="0" lang="en-US" sz="2400" spc="-1" strike="noStrike">
              <a:solidFill>
                <a:srgbClr val="ffffff"/>
              </a:solidFill>
              <a:latin typeface="Arial"/>
            </a:endParaRPr>
          </a:p>
          <a:p>
            <a:pPr marL="343080" indent="-343080">
              <a:spcBef>
                <a:spcPts val="601"/>
              </a:spcBef>
              <a:spcAft>
                <a:spcPts val="1500"/>
              </a:spcAft>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ation brief (&lt;6 months)</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ronic Illness</a:t>
            </a:r>
            <a:endParaRPr b="0" lang="en-US" sz="28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set is slower</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persist from acute/subacute phase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ation indefinite (&gt; 6 month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a:t>
            </a:r>
            <a:endParaRPr b="0" lang="en-US" sz="3600" spc="-1" strike="noStrike">
              <a:solidFill>
                <a:srgbClr val="ffff00"/>
              </a:solidFill>
              <a:latin typeface="Arial"/>
            </a:endParaRPr>
          </a:p>
        </p:txBody>
      </p:sp>
      <p:sp>
        <p:nvSpPr>
          <p:cNvPr id="10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netic Disease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tic mutations:</a:t>
            </a:r>
            <a:r>
              <a:rPr b="0" lang="en-US" sz="2800" spc="-1" strike="noStrike">
                <a:solidFill>
                  <a:srgbClr val="ffffff"/>
                </a:solidFill>
                <a:latin typeface="Arial"/>
              </a:rPr>
              <a:t> changes in the genetic code tha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passed from one generation to the nex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occur spontaneousl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be caused by agents that disrupt the normal DNA sequ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0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s of Inheritance for Genetic Diseases</a:t>
            </a:r>
            <a:endParaRPr b="0" lang="en-US" sz="2800" spc="-1" strike="noStrike">
              <a:solidFill>
                <a:srgbClr val="ffffff"/>
              </a:solidFill>
              <a:latin typeface="Arial"/>
            </a:endParaRPr>
          </a:p>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osomal dominant:</a:t>
            </a:r>
            <a:r>
              <a:rPr b="0" lang="en-US" sz="2400" spc="-1" strike="noStrike">
                <a:solidFill>
                  <a:srgbClr val="ffffff"/>
                </a:solidFill>
                <a:latin typeface="Arial"/>
              </a:rPr>
              <a:t> single abnormal gene on only one of a chromosome pair will cause disease</a:t>
            </a:r>
            <a:endParaRPr b="0" lang="en-US" sz="2400" spc="-1" strike="noStrike">
              <a:solidFill>
                <a:srgbClr val="ffffff"/>
              </a:solidFill>
              <a:latin typeface="Arial"/>
            </a:endParaRPr>
          </a:p>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osomal recessive:</a:t>
            </a:r>
            <a:r>
              <a:rPr b="0" lang="en-US" sz="2400" spc="-1" strike="noStrike">
                <a:solidFill>
                  <a:srgbClr val="ffffff"/>
                </a:solidFill>
                <a:latin typeface="Arial"/>
              </a:rPr>
              <a:t> same abnormal gene present on both chromosomes of a pa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linked (sex-linked) recessive:</a:t>
            </a:r>
            <a:r>
              <a:rPr b="0" lang="en-US" sz="2400" spc="-1" strike="noStrike">
                <a:solidFill>
                  <a:srgbClr val="ffffff"/>
                </a:solidFill>
                <a:latin typeface="Arial"/>
              </a:rPr>
              <a:t> abnormal gene is only located on an X chromoso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0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c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s of transmission include:</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rect or indirect physical contact</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ody fluids/blood</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halatio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gestio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sect/anim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0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c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hogenic agents include:</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cteria</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iruse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ungi</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tozo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1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c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r>
              <a:rPr b="0" lang="ja-JP" sz="2400" spc="-1" strike="noStrike">
                <a:solidFill>
                  <a:srgbClr val="ffffff"/>
                </a:solidFill>
                <a:latin typeface="Arial"/>
              </a:rPr>
              <a:t>’</a:t>
            </a:r>
            <a:r>
              <a:rPr b="0" lang="en-US" sz="2400" spc="-1" strike="noStrike">
                <a:solidFill>
                  <a:srgbClr val="ffffff"/>
                </a:solidFill>
                <a:latin typeface="Arial"/>
              </a:rPr>
              <a:t>s defense systems against infection:</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ural mechanical and chemical barrier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flammatory respons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mmune respon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1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99"/>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lammation and Repair</a:t>
            </a:r>
            <a:endParaRPr b="0" lang="en-US" sz="32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 inflammatory response is marked by:</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nes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ell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i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s of func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1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ammation and Repair</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 inflammatory response can be inhibited by:</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une disorder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onic illnes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tions, especially steroi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1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group of diseases characterized by uncontrolled cell proliferation or growth.</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controlled growth proliferates at the expense of healthy cells and tissu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controlled growth can develop into masses of abnormal cells or tumor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1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ign tumors </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 slowly</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arise from any tissu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remain encapsulated (self-contained)</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rely recur after surgical remov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hapter 1</a:t>
            </a:r>
            <a:br>
              <a:rPr sz="3600"/>
            </a:br>
            <a:r>
              <a:rPr b="0" lang="en-US" sz="3200" spc="-1" strike="noStrike">
                <a:solidFill>
                  <a:srgbClr val="ffff00"/>
                </a:solidFill>
                <a:latin typeface="Arial"/>
              </a:rPr>
              <a:t>Mechanisms of Disease, Diagnosis, and Treatment</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2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lignant tumors </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s multiply rapidly</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usually resemble the tissue of origi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ade surrounding tissu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recurrent</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iltrate to distant sites (metastasiz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2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 risk factor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bacco smoke (active and passiv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vy use of alcoho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ure to environmental carcinoge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fat/low fiber die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ssive exposure to sunlight/UV ligh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entary lifestyl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ure to radiation/rad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2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 screening guideline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A test (prostate-specific antige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icular self-exam</a:t>
            </a:r>
            <a:endParaRPr b="0" lang="en-US" sz="24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p smea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mmogram</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st self-exa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5" descr=""/>
          <p:cNvPicPr/>
          <p:nvPr/>
        </p:nvPicPr>
        <p:blipFill>
          <a:blip r:embed="rId1"/>
          <a:stretch/>
        </p:blipFill>
        <p:spPr>
          <a:xfrm>
            <a:off x="1600200" y="1676520"/>
            <a:ext cx="5943600" cy="4468680"/>
          </a:xfrm>
          <a:prstGeom prst="rect">
            <a:avLst/>
          </a:prstGeom>
          <a:ln w="0">
            <a:noFill/>
          </a:ln>
        </p:spPr>
      </p:pic>
      <p:sp>
        <p:nvSpPr>
          <p:cNvPr id="12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ing Sites of New Cancer Cases and Deaths - 2006 Estimates</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2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 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er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a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mo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rmone 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uno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lliative surge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3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pice Care</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fort and supportive care for the patient and family during the terminal stages of illness and into the bereavement period</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hasis on palliative treatment</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ither hastens nor postpones death</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s dying as a normal process</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physical, psychological, and spiritual support</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be home-based or in a facility with dedicated hospice services/be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3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sposing Factor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d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estyl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3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changeable predisposing factor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d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3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able predisposing factor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festyle</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abuse and violenc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r nutritio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bacco, drugs, and alcohol</a:t>
            </a:r>
            <a:endParaRPr b="0" lang="en-US" sz="20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vironment</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 and water pollutio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onic str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3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99"/>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ive health care</a:t>
            </a:r>
            <a:endParaRPr b="0" lang="en-US" sz="32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personal health behaviors:</a:t>
            </a:r>
            <a:endParaRPr b="0" lang="en-US" sz="2800" spc="-1" strike="noStrike">
              <a:solidFill>
                <a:srgbClr val="ffffff"/>
              </a:solidFill>
              <a:latin typeface="Arial"/>
            </a:endParaRPr>
          </a:p>
          <a:p>
            <a:pPr lvl="2" marL="1143000" indent="-228600">
              <a:spcBef>
                <a:spcPts val="60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dification of identified risk factors</a:t>
            </a:r>
            <a:endParaRPr b="0" lang="en-US" sz="2400" spc="-1" strike="noStrike">
              <a:solidFill>
                <a:srgbClr val="ffffff"/>
              </a:solidFill>
              <a:latin typeface="Arial"/>
            </a:endParaRPr>
          </a:p>
          <a:p>
            <a:pPr lvl="2" marL="1143000" indent="-228600">
              <a:spcBef>
                <a:spcPts val="60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phylactic medical services</a:t>
            </a:r>
            <a:endParaRPr b="0" lang="en-US" sz="2400" spc="-1" strike="noStrike">
              <a:solidFill>
                <a:srgbClr val="ffffff"/>
              </a:solidFill>
              <a:latin typeface="Arial"/>
            </a:endParaRPr>
          </a:p>
          <a:p>
            <a:pPr lvl="2" marL="1143000" indent="-228600">
              <a:spcBef>
                <a:spcPts val="60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vironmental and workplace safet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a:t>
            </a:r>
            <a:endParaRPr b="0" lang="en-US" sz="3600" spc="-1" strike="noStrike">
              <a:solidFill>
                <a:srgbClr val="ffff00"/>
              </a:solidFill>
              <a:latin typeface="Arial"/>
            </a:endParaRPr>
          </a:p>
        </p:txBody>
      </p:sp>
      <p:sp>
        <p:nvSpPr>
          <p:cNvPr id="88"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how a pathologic condition affects the homeostasis of the body.</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difference between signs and symptoms of disease, acute and chronic disease, benign and malignant disease.</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the predisposing factors of disease.</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ways in which pathogens may cause disea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4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une disorder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ersensitivity reaction (allerg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immune diseas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unodeficiency disord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4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sensitivity reaction </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ure to allergen, which acts as antige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ggers release of histamine, etc.</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produced (mild to life-threaten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9"/>
          <p:cNvSpPr/>
          <p:nvPr/>
        </p:nvSpPr>
        <p:spPr>
          <a:xfrm>
            <a:off x="6681960" y="3092400"/>
            <a:ext cx="325440" cy="3970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Allergic Reaction</a:t>
            </a:r>
            <a:endParaRPr b="0" lang="en-US" sz="3600" spc="-1" strike="noStrike">
              <a:solidFill>
                <a:srgbClr val="ffff00"/>
              </a:solidFill>
              <a:latin typeface="Arial"/>
            </a:endParaRPr>
          </a:p>
        </p:txBody>
      </p:sp>
      <p:pic>
        <p:nvPicPr>
          <p:cNvPr id="146" name="Picture 17" descr=""/>
          <p:cNvPicPr/>
          <p:nvPr/>
        </p:nvPicPr>
        <p:blipFill>
          <a:blip r:embed="rId1"/>
          <a:stretch/>
        </p:blipFill>
        <p:spPr>
          <a:xfrm>
            <a:off x="2514600" y="1676520"/>
            <a:ext cx="4049640" cy="426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48"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ing Proces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abolic changes (e.g., decreased liver &amp; kidney func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d total body wat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body composition (e.g., increased adipose tissue, decreased muscle ma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d bone densit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0"/>
          <p:cNvSpPr/>
          <p:nvPr/>
        </p:nvSpPr>
        <p:spPr>
          <a:xfrm>
            <a:off x="914400" y="2693880"/>
            <a:ext cx="73152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hapter 1</a:t>
            </a:r>
            <a:br>
              <a:rPr sz="4400"/>
            </a:br>
            <a:r>
              <a:rPr b="0" lang="en-US" sz="4000" spc="-1" strike="noStrike">
                <a:solidFill>
                  <a:srgbClr val="ffff00"/>
                </a:solidFill>
                <a:latin typeface="Arial"/>
              </a:rPr>
              <a:t>Lesson 1.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a:t>
            </a:r>
            <a:endParaRPr b="0" lang="en-US" sz="3600" spc="-1" strike="noStrike">
              <a:solidFill>
                <a:srgbClr val="ffff00"/>
              </a:solidFill>
              <a:latin typeface="Arial"/>
            </a:endParaRPr>
          </a:p>
        </p:txBody>
      </p:sp>
      <p:sp>
        <p:nvSpPr>
          <p:cNvPr id="15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n Physiology</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mulation of nociceptors found on free nerve endings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ulses travel through spinal cord to brai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signals injury or tissue damag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travel a parallel pathway along spinal cord to brain, resulting in referred pain in another part of the bod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5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n Medication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gesic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ioids (narcotic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steroidal anti-inflammatory drugs (NSAIDS)</a:t>
            </a:r>
            <a:endParaRPr b="0" lang="en-US" sz="20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depressan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convulsan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spasmod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5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ychological Pai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elings of sadness, despair, anger, depression, helplessness, hopeless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ought processes may be impaire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eep patterns may be disrupte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exhibit changes in personal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cry or show signs of withdraw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5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 of Disease</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 histor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exam</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tory tests (blood count, chemistry, etc.)</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ing tests (MRI, CT, X-ray, ultrasound, etc.)</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ops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cellaneous tests (pulmonary function, cultures, 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5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istic Medical Car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es on the needs of the whole pers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ritua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ychologica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a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otiona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lectu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90"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 the essential steps in diagnosis of disease.</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prevention guidelines for cancer.</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inflammation response to disease.</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hospice concept of care.</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two ways an individual can practice positive health behavi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6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ltural Diversity</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ity based on numerous differenc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c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nic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ltur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us belief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life experien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6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ernative Medicine</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apies complementary to traditional medicine: </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pathy</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puncture and acupressur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age and reflexology</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xation therapy</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bal/nutritional supplements</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ropractic</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n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6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 Counseling</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process that revolves around the occurrence of or potential for a genetic disorder within a famil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tic testing may be recommende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results, risks of disease development, and available treatment options discus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chanisms of Diseas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6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 therapy</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rimental intervention repairs or blocks the expression of specific genes to treat diseas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sease treated with gene therapy may be either inherited or acqui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ient Teaching</a:t>
            </a:r>
            <a:endParaRPr b="0" lang="en-US" sz="3600" spc="-1" strike="noStrike">
              <a:solidFill>
                <a:srgbClr val="ffff00"/>
              </a:solidFill>
              <a:latin typeface="Arial"/>
            </a:endParaRPr>
          </a:p>
        </p:txBody>
      </p:sp>
      <p:sp>
        <p:nvSpPr>
          <p:cNvPr id="16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 of patient teaching</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 patient compliance with the medical treatment pla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rify information and instructio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ter patient independence and responsibil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 trusting, therapeutic relationsh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ient Teaching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17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reasons for patient teaching</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e anxie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 greater sense of patient contro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patient/family cop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 goals for recovery or acceptanc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unnecessary clinic visits and hospitaliz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92"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physiology of pain, how pain may be treated, and what is meant by referred pai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holistic approach to medical car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examples of alternative medical therapie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the principles and goals of patient teach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32"/>
          <p:cNvSpPr/>
          <p:nvPr/>
        </p:nvSpPr>
        <p:spPr>
          <a:xfrm>
            <a:off x="914400" y="2693880"/>
            <a:ext cx="73152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hapter 1</a:t>
            </a:r>
            <a:br>
              <a:rPr sz="4400"/>
            </a:br>
            <a:r>
              <a:rPr b="1" lang="en-US" sz="4000" spc="-1" strike="noStrike">
                <a:solidFill>
                  <a:srgbClr val="ffff00"/>
                </a:solidFill>
                <a:latin typeface="Arial"/>
              </a:rPr>
              <a:t>Lesson 1.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logy at First Glance</a:t>
            </a:r>
            <a:endParaRPr b="0" lang="en-US" sz="3600" spc="-1" strike="noStrike">
              <a:solidFill>
                <a:srgbClr val="ffff00"/>
              </a:solidFill>
              <a:latin typeface="Arial"/>
            </a:endParaRPr>
          </a:p>
        </p:txBody>
      </p:sp>
      <p:sp>
        <p:nvSpPr>
          <p:cNvPr id="9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meostasis: </a:t>
            </a:r>
            <a:r>
              <a:rPr b="0" lang="en-US" sz="2800" spc="-1" strike="noStrike">
                <a:solidFill>
                  <a:srgbClr val="ffffff"/>
                </a:solidFill>
                <a:latin typeface="Arial"/>
              </a:rPr>
              <a:t>internal stability of the body</a:t>
            </a:r>
            <a:endParaRPr b="0" lang="en-US" sz="2800" spc="-1" strike="noStrike">
              <a:solidFill>
                <a:srgbClr val="ffffff"/>
              </a:solidFill>
              <a:latin typeface="Arial"/>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hology:</a:t>
            </a:r>
            <a:r>
              <a:rPr b="0" lang="en-US" sz="2800" spc="-1" strike="noStrike">
                <a:solidFill>
                  <a:srgbClr val="ffffff"/>
                </a:solidFill>
                <a:latin typeface="Arial"/>
              </a:rPr>
              <a:t> abnormal condition causing measurable changes in structure and func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hogenesis: </a:t>
            </a:r>
            <a:r>
              <a:rPr b="0" lang="en-US" sz="2800" spc="-1" strike="noStrike">
                <a:solidFill>
                  <a:srgbClr val="ffffff"/>
                </a:solidFill>
                <a:latin typeface="Arial"/>
              </a:rPr>
              <a:t>development of disease in stag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logy at First Glanc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9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ic health: </a:t>
            </a:r>
            <a:r>
              <a:rPr b="0" lang="en-US" sz="2800" spc="-1" strike="noStrike">
                <a:solidFill>
                  <a:srgbClr val="ffffff"/>
                </a:solidFill>
                <a:latin typeface="Arial"/>
              </a:rPr>
              <a:t>Internal equilibrium</a:t>
            </a:r>
            <a:endParaRPr b="0" lang="en-US" sz="2800" spc="-1" strike="noStrike">
              <a:solidFill>
                <a:srgbClr val="ffffff"/>
              </a:solidFill>
              <a:latin typeface="Arial"/>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ease state:</a:t>
            </a:r>
            <a:r>
              <a:rPr b="0" lang="en-US" sz="2800" spc="-1" strike="noStrike">
                <a:solidFill>
                  <a:srgbClr val="ffffff"/>
                </a:solidFill>
                <a:latin typeface="Arial"/>
              </a:rPr>
              <a:t> Inability to adapt to internal/external stressors or challeng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ndrome: </a:t>
            </a:r>
            <a:r>
              <a:rPr b="0" lang="en-US" sz="2800" spc="-1" strike="noStrike">
                <a:solidFill>
                  <a:srgbClr val="ffffff"/>
                </a:solidFill>
                <a:latin typeface="Arial"/>
              </a:rPr>
              <a:t>Defined collection of signs and symptoms that characterize a condi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logy at First Glance </a:t>
            </a:r>
            <a:r>
              <a:rPr b="0" lang="en-US" sz="1800" spc="-1" strike="noStrike">
                <a:solidFill>
                  <a:srgbClr val="ffff00"/>
                </a:solidFill>
                <a:latin typeface="Arial"/>
              </a:rPr>
              <a:t>(cont</a:t>
            </a:r>
            <a:r>
              <a:rPr b="0" lang="ja-JP" sz="1800" spc="-1" strike="noStrike">
                <a:solidFill>
                  <a:srgbClr val="ffff00"/>
                </a:solidFill>
                <a:latin typeface="Arial"/>
              </a:rPr>
              <a:t>’</a:t>
            </a:r>
            <a:r>
              <a:rPr b="0" lang="en-US" sz="1800" spc="-1" strike="noStrike">
                <a:solidFill>
                  <a:srgbClr val="ffff00"/>
                </a:solidFill>
                <a:latin typeface="Arial"/>
              </a:rPr>
              <a:t>d.)</a:t>
            </a:r>
            <a:endParaRPr b="0" lang="en-US" sz="1800" spc="-1" strike="noStrike">
              <a:solidFill>
                <a:srgbClr val="ffff00"/>
              </a:solidFill>
              <a:latin typeface="Arial"/>
            </a:endParaRPr>
          </a:p>
        </p:txBody>
      </p:sp>
      <p:sp>
        <p:nvSpPr>
          <p:cNvPr id="9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s</a:t>
            </a:r>
            <a:endParaRPr b="0" lang="en-US" sz="28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normal objective finding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redness, swelling, purulent discharge, fever</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mptoms</a:t>
            </a:r>
            <a:endParaRPr b="0" lang="en-US" sz="28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jective patient report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difficulty swallowing, pain, fatigue, headach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3T17:41:01Z</dcterms:created>
  <dc:creator>Michael &amp; Eleftheria Parafink</dc:creator>
  <dc:description/>
  <dc:language>en-US</dc:language>
  <cp:lastModifiedBy>Mary Flanagan</cp:lastModifiedBy>
  <dcterms:modified xsi:type="dcterms:W3CDTF">2011-05-15T17:07:57Z</dcterms:modified>
  <cp:revision>88</cp:revision>
  <dc:subject/>
  <dc:title>Slide 1</dc:title>
</cp:coreProperties>
</file>